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001A8-C5CA-4012-BBCE-C5E4D3C5E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A70D3-52ED-459C-9789-3339A28C5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EFDE0-3321-487D-896A-C45642271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C94EC-5528-4781-A584-7423697D0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9B41A-DD9D-4F92-A474-91447B868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1DBB7-CFAB-4622-AD7C-C340E3DED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0486D-92FA-402D-A589-A5B312E3C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A993E-7590-493E-AE38-4502C1F81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C709C-4EE3-467D-91D8-4C50AF816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C0C2A-7050-43AC-9FE2-7D1ACC66D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3AF85-B6DD-4629-AE1B-21CE57ABA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83C68-FFA2-4AFF-8209-3F447B566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F957D-B983-430F-BBA1-6CBCDE781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A23FC-273D-481B-A351-84F7121F9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2B8CD-1D8C-4880-A3ED-8435AD16C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7D957-5ED8-4CF7-BB8E-1F8DE2D93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797E8-68C5-4D7E-9E2B-283163DA3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EE21848-1189-463C-8BFD-5BFEF7DE1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47A9346-0EDB-47B9-BD8E-F476D986B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ED7FEDD-B40E-419A-AC70-807923546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1C864C8-7D6E-4865-A3DD-2A0E99393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250F9AE-7845-444F-8F50-5670FC8D2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D7B2D-D7F4-4685-B52C-890ED2FA1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68C38EC-EA7A-4B55-B5DE-3430AF5ED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2C9AFD7-8047-4ACE-A675-B6C914436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5E2B4F6-62BB-453A-B912-2367EC359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9059272-16D4-4CC4-B45C-E9F146B8F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3380CEE-0C65-4CBB-A04F-08C57556A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C6910E1-79CF-49A2-A237-2F3ADA5DA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F4A7265-4893-4135-B1C3-9314D36D7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4E278A-F816-4661-929E-AFFD3F7D8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4E5D23-E82C-4B4D-85D2-60C08E66F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82D5EA-311A-4734-966D-1353A5E74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8A37C-08A8-4237-BFDF-21FE9F4D3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6FA2E4-CDC1-4A9F-9468-D124960C1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A34478-33A6-435F-BFF6-6ABC775A1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05AC91-0799-439A-B5F3-898302FED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805266-0E18-4A4A-B887-562290094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B9D69B-5D16-4AB0-A740-7294686FC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8FC49E-CF02-4C76-8C43-292782057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3BB436-1B51-4BCA-AB33-FE348AC60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36C6C5-EDC7-45AB-8F10-B7F51188A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566B73-8906-463C-BCBE-7CA01A17C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258A5-643E-4D94-A6ED-284646789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9E875-DA86-4F0D-A009-2184C8F3A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F3FFA-1B3C-47B6-A330-481375DEC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E5182-2BE1-4F11-A983-BE8867660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87583-C5B5-4326-ABFE-CDA8D7A28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B0066-9B55-4E1C-A8BF-AD7CC18147C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25B97-9201-4339-B258-97D72A98B1A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ldNum" idx="8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AB7B4-BB6A-4118-86DE-B472373CB8B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215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216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221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223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ftr" idx="9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26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26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26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dt" idx="10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ftr" idx="11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 type="sldNum" idx="12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CAC43-5255-4FCD-832C-D6B4EE6A887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La Casa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r Shaylee Carrasquillo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Mi Garaj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i Garaje es grande!!!!!!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762120" y="2222640"/>
            <a:ext cx="7848360" cy="43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Mi  Piscin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i Piscina es fabulosa!!!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685800" y="2362320"/>
            <a:ext cx="6705720" cy="43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/>
          </p:nvPr>
        </p:nvSpPr>
        <p:spPr>
          <a:xfrm>
            <a:off x="228600" y="1447560"/>
            <a:ext cx="8453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 algn="ctr">
              <a:spcBef>
                <a:spcPts val="265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eaeaea"/>
                </a:solidFill>
                <a:latin typeface="Arial"/>
              </a:rPr>
              <a:t>Adios</a:t>
            </a:r>
            <a:endParaRPr b="0" lang="en-US" sz="106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2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Mi casa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i Casa es bello!!!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7619760" cy="400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Mi Cocin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-360" y="1600200"/>
            <a:ext cx="8682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i Cocina es fabuloso!!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152280" y="2335320"/>
            <a:ext cx="8001000" cy="395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Mi Comedor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i Comedor es bonito!!!!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457200" y="2590920"/>
            <a:ext cx="777240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Mi Sal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i Sala es magnifico!!!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324" name="" descr="Laltrogiorno Living Room Layout"/>
          <p:cNvPicPr/>
          <p:nvPr/>
        </p:nvPicPr>
        <p:blipFill>
          <a:blip r:embed="rId1"/>
          <a:stretch/>
        </p:blipFill>
        <p:spPr>
          <a:xfrm>
            <a:off x="838080" y="2343240"/>
            <a:ext cx="7239240" cy="43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El Bano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i Bano es grande!!! 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327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7543800" cy="414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Mi Cuarto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i Cuarto es estupendo!!!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330" name="" descr=""/>
          <p:cNvPicPr/>
          <p:nvPr/>
        </p:nvPicPr>
        <p:blipFill>
          <a:blip r:embed="rId1"/>
          <a:stretch/>
        </p:blipFill>
        <p:spPr>
          <a:xfrm>
            <a:off x="762120" y="2209680"/>
            <a:ext cx="6933960" cy="43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Mi Patio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i Patio es impresionante!!!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333" name="" descr=""/>
          <p:cNvPicPr/>
          <p:nvPr/>
        </p:nvPicPr>
        <p:blipFill>
          <a:blip r:embed="rId1"/>
          <a:stretch/>
        </p:blipFill>
        <p:spPr>
          <a:xfrm>
            <a:off x="380880" y="2133720"/>
            <a:ext cx="75438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Mi Jardi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i Jardin es grande!!!!!!!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838080" y="2362320"/>
            <a:ext cx="70866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5T16:58:38Z</dcterms:created>
  <dc:creator>Carrasquillosha</dc:creator>
  <dc:description/>
  <dc:language>en-US</dc:language>
  <cp:lastModifiedBy>Carrasquillosha</cp:lastModifiedBy>
  <dcterms:modified xsi:type="dcterms:W3CDTF">2012-10-26T15:44:31Z</dcterms:modified>
  <cp:revision>3</cp:revision>
  <dc:subject/>
  <dc:title>La Casa</dc:title>
</cp:coreProperties>
</file>